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gif" ContentType="image/gif"/>
  <Override PartName="/ppt/media/image12.jpeg" ContentType="image/jpeg"/>
  <Override PartName="/ppt/media/image13.png" ContentType="image/png"/>
  <Override PartName="/ppt/media/image6.png" ContentType="image/png"/>
  <Override PartName="/ppt/media/image7.gif" ContentType="image/gif"/>
  <Override PartName="/ppt/media/image26.jpeg" ContentType="image/jpeg"/>
  <Override PartName="/ppt/media/applause.wav" ContentType="audio/x-wav"/>
  <Override PartName="/ppt/media/image27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4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21.png" ContentType="image/png"/>
  <Override PartName="/ppt/media/image20.gif" ContentType="image/gif"/>
  <Override PartName="/ppt/media/image19.gif" ContentType="image/gif"/>
  <Override PartName="/ppt/media/image1.jpeg" ContentType="image/jpeg"/>
  <Override PartName="/ppt/media/image17.jpeg" ContentType="image/jpeg"/>
  <Override PartName="/ppt/media/image23.gif" ContentType="image/gif"/>
  <Override PartName="/ppt/media/image28.jpeg" ContentType="image/jpeg"/>
  <Override PartName="/ppt/media/image18.png" ContentType="image/png"/>
  <Override PartName="/ppt/media/image3.wmf" ContentType="image/x-wmf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4AB-7FB7-4A2F-BB95-DA83B905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0E0-17B5-4B43-926B-B221F91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655-184E-4C29-9506-E412EA7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520-91B9-4D40-B513-A8653590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3B1-ABCB-4253-B683-D5F1D9A0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362-9FA5-4679-B694-9FF93A54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E990-4458-4AAC-BC62-3CA50615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B0F-93E0-40F7-AC77-AF2FC906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AB26-7262-4012-9910-9C20F5D0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F0F9-2808-4637-838A-846BEC2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E341-1BFB-4B3A-82FA-03945EB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5E1-9B32-47A4-8B3E-BCB988D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440-CA1D-46D0-9436-C2CC702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C44B-C599-485F-9CA0-6B844DE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93BE-6A12-484F-A4DF-E59933C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CAD-AA7F-4A0D-8A52-B4667953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00FF-7338-4712-B625-F30122AA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42F-380B-4C4B-8ABF-78F73DB8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D30-6341-4AA5-863C-DD81A77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CDC-CDB9-47E9-896B-23D0681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BF5-0577-48AD-8143-7E6BB54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43E-DCA6-45D2-92EC-9B9B35D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9D0-E799-43EC-A09C-E5A57311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5A2-B994-4CEC-90AF-3276153F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B8F-D562-4FFA-92BB-D993F3CE699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5A33-B684-49BD-9738-6643B8AD419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.xml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orts.sina.com.cn/o/2007-10-05/11223209216.shtml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shangdu.com/category/10003/2007/01/18/2007-01-18_535671_10003.s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:/&#20844;&#24320;&#35838;/&#32473;&#20320;&#30340;&#35802;&#20449;&#25171;&#20998;.doc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87280" y="1484280"/>
            <a:ext cx="5513400" cy="36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识诚信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3573360"/>
            <a:ext cx="1905120" cy="112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77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04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28600" y="192240"/>
            <a:ext cx="9677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志不强者智不达，言不信者行不果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墨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外相应，言行相称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韩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 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善不由外来兮，名不可以虚作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屈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者，精诚之至也，不精不诚，不能动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周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背信则名不达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刘向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信接人，天下信之；不以信接人，妻子疑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畅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无忠信，不可立于世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程颐，宋朝哲学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虚不如少实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陈甫，宋朝哲学家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1052640"/>
            <a:ext cx="727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《诚信之约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祝愿  诚信的种子  播撒荒芜的心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期盼  诚信的利剑  斩断欺瞒的锁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牢记  古往今来    那些诚信的教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神往  茫茫人间    那些诚信的榜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呼唤  彼此诚实    一清如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呼唤  与人和睦    言行相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承诺  对家庭尽心  对社会负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承诺  对朋友忠诚  对世人关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4479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98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，张瑞敏刚到海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当时称青岛电冰箱总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一天，一位朋友要买一台冰箱，结果挑了很多台都有毛病，最后勉强拉走一台。朋友走后，张瑞敏派人把库房里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台冰箱全部检查了一遍，发现共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台存在各种各样的缺陷。张瑞敏把职工们叫到车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Arial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84400" cy="2667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19600" y="4726080"/>
            <a:ext cx="14608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张瑞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尔首席执行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76720" y="5105520"/>
            <a:ext cx="4190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怎么办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海尔成长之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361960" y="129528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i="1" lang="zh-CN" sz="3200" spc="-1" strike="noStrike" u="sng">
                <a:solidFill>
                  <a:srgbClr val="ff6600"/>
                </a:solidFill>
                <a:uFillTx/>
                <a:latin typeface="Arial"/>
              </a:rPr>
              <a:t>职工们 </a:t>
            </a:r>
            <a:r>
              <a:rPr b="1" i="1" lang="zh-CN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提出，也不影响使用，便宜点儿处理给职工算了。当时一台冰箱的价格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多元，相当于一名职工两年的收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357280" y="3951000"/>
            <a:ext cx="640584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张瑞敏 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要是允许把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台冰箱卖了，就等于允许你们明天再生产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6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台这样的冰箱。”他宣布，这些冰箱要全部砸掉，谁干的谁来砸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海尔成长之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371600"/>
            <a:ext cx="8139240" cy="2709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4419720"/>
            <a:ext cx="76964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海尔集团全球营业额预计突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亿元，是创业初期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90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倍，成为中国第一个千亿级规模的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自主品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05720" y="5029200"/>
            <a:ext cx="2076480" cy="1314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34120" y="2819520"/>
            <a:ext cx="312408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549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海尔成长之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11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1638360"/>
            <a:ext cx="6400800" cy="5219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请你谈一谈女飞人琼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女飞人琼斯的辉煌成绩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琼斯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的悉尼奥运会上可谓风光无限，她一人独得女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x4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接力三枚金牌，并获得了女子跳远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x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的铜牌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在琼斯运动生涯的黄金时期，她是第一位女子田坛百万美元宝贝，每次比赛出场费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美元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美元，外加至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美元的奖金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，琼斯参加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次国际比赛，其中包括悉尼奥运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更是整个赛季保持不败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世界排名第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琼斯在巅峰时代成为了第一个田径女百万富翁，赞助每年达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美元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兴奋剂调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~200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这长达一年的时间内，琼斯有计划有剂量地服用了兴奋剂，兴奋剂中除了使用了巴尔科实验室生产的著名兴奋剂——新型类固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THG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，还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EPO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促红细胞生成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人体生长激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自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起，国际奥委会已经就开始对琼斯是否使用兴奋剂展开调查。并就这一事件对琼斯在奥运会比赛中的影响展开调查。由于收集证据比较困难，确定运动员服药的调查进程比较缓慢。关于马里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琼斯服药的报告今天晚些时候可能会提供出来，这一报告将成为整个事件发展的关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雅典奥运会上，琼斯缺席了百米争夺战，最后是空手而归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去年印第安纳波利斯举行的全美田径锦标赛上，琼斯被发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瓶尿样呈阳性，幸好她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瓶尿样被检测呈阴性，临时禁赛也被解除，但在此之间琼斯至少缺席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次大奖赛，损失大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美元。琼斯在今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再次结婚后，就一直没有参加比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6320" y="395280"/>
            <a:ext cx="8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个真实的事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25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广东省茂名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006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体彩销售点开出一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大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奖彩民是电话投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未付款也不来取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面对足以改变自己命运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元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业主林海燕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2130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她没有半点贪念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及时通知中奖彩民取票兑奖……林海燕的诚信事迹在全国掀起了一股“诚信旋风”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,“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林海燕”三个字也成为诚信的代名词。这个彩票点的生意越来越好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大家都把她当知心的朋友看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16600" y="5354640"/>
            <a:ext cx="2076480" cy="131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诚恳的认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7-10-06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官方网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讯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枚奥运会金牌得主、美国田径名将马里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琼斯在当地时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下午在美国纽约州的怀特普莱恩斯出庭，在接受检察官问讯时承认自己使用过违禁药物，并在走出法庭后宣布退役。琼斯在法庭上承认，她以前坚决否认自己使用过违禁药物的说法是在说谎。她表示，她确实服用过类固醇这类兴奋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琼斯终于承认服用禁药 女飞人面临最长五年牢狱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今天，琼斯的事情被搬上了法庭。据悉，琼斯一旦被处罚，她将面临长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的牢狱之苦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美金的罚款，而且她所获得金牌都将被剥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悔恨的泪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7391520" cy="466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49760" y="609480"/>
            <a:ext cx="5394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琼斯含泪向人们道歉，她说：“我的行为深深伤害了那些关心的人们，我对不起他们，我出卖了那些信任我的人，我想我会选择退役，离开这个令我伤心的地方。”“要知道，我依然深深爱着田径这项运动，”琼斯伤感的表示，“我希望通过这件事情能使今后的运动员认识到禁药的危害性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据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美联社的消息，在获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悉尼奥运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枚金牌和两枚铜牌后，曾拿出数百万美元投资的美国“女飞人”琼斯破产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法院曾查封了琼斯在密执安价值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5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美元的别墅，另外她还被迫卖掉了其他两处房产用以还债，其中包括她母亲的房子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悉尼奥运会上获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枚奖牌的美国女子短跑运动员马里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琼斯失去了赞助合同，宣布破产。美国法院认定，琼斯已负债累累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判必须支付前教练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美元的训练费及律师费，但她的帐户上仅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美元，最终美国法院认定，琼斯破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美国一代女飞人宣告破产！对于已经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的琼斯来说，想要东山再起非常困难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建校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年来最大丑闻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今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，美国著名学府杜克大学福卡商学院宣布了建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来的最大丑闻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名学生在一场必修课考试中集体作弊，导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被开除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被停课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被责令重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份雷同试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今年三月份，学院给工商管理研究生布置了一个期末考试题，名为“决策模式”。考试为开卷形式，题目由学生带回家做，但是授课教授在评卷过程中发现，明年将要毕业的一群学生答案出奇的雷同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被开除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学生中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是中国学生，停课的也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中国学生，还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中国学生重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中国留学生遭遇诚信危机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据了解，申请材料造假、考试作弊、个人信用不佳这三大问题尤为突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考试作弊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 雇“枪手”代考及考试作弊等现象，严重影响了中国留学生的诚信形象，带来一系列负面影响。例如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美国教育考试中心宣布，在中国取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GRE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机考，同时，美国各研究生院也对中国申请人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GRE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绩保持“警惕”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个人信用不佳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 乘车逃票、打“黑工”、帐单逾期不交等行为，看似细节问题，在国外却被视为“品行不佳”，一些中国留学生就是因为不重视而造成不良影响。例如，某留德中国学生因留学期间乘车逃票而导致求职被拒；还有的中国学生拿着博士奖学金赴美留学，一旦找到工作就申请离校，将要完成学位和研究的承诺抛在一边，引起学校和教授的不满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461880"/>
            <a:ext cx="1398600" cy="124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52960" y="2079720"/>
            <a:ext cx="44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.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林海燕的生意为什么会越来越好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39560" y="3016080"/>
            <a:ext cx="4461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诚信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实际生活中的要求是什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0960" y="395136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事例可看出诚信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41000" y="4743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谁能这两方面的作用上能再举一例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981000"/>
            <a:ext cx="15843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61722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河南某一小学学生踊跃报名参加诚信考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43000" y="1066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  <a:ea typeface="黑体"/>
              </a:rPr>
              <a:t>伏明霞奥运会跳水冠军说：我会最先扔掉“荣誉”和“机敏”，因为“荣誉”只有在事业有成时才可真正获得。即使没有了“机敏”，还可凭借才学和学识去获取成功。那么，她又会把什么留在最后呢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  <a:ea typeface="黑体"/>
              </a:rPr>
              <a:t>她说是“健康”，原因很简单，因为没有好身体，什么都不会有的。她认为“诚信”在她已取得巨大成功的人生中起着决定性的作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7480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733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  <a:ea typeface="黑体"/>
              </a:rPr>
              <a:t>著名节目主持人周涛说：“我首先放弃‘金钱’因为在这种情况下，金钱是最没用的”。她同样把“健康”放在最后。她认为：在现代这样一个人与人高度紧密联系的社会，一个人的人格完善是在与人的交往合作中完成的。而失去了“诚信”也就是放弃了朋友，没有了朋友，事业就不会成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380880"/>
            <a:ext cx="2438280" cy="533520"/>
          </a:xfrm>
          <a:prstGeom prst="wedgeRoundRectCallout">
            <a:avLst>
              <a:gd name="adj1" fmla="val -77148"/>
              <a:gd name="adj2" fmla="val 30356"/>
              <a:gd name="adj3" fmla="val 16667"/>
            </a:avLst>
          </a:prstGeom>
          <a:solidFill>
            <a:srgbClr val="cc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4360" y="380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  <a:ea typeface="隶书"/>
              </a:rPr>
              <a:t>他们怎么选择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238880" y="5791320"/>
            <a:ext cx="19051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2394000"/>
            <a:ext cx="60962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诚信——诚实守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诚者，忠诚也，没有二心；信者，守信也，言行一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610320" y="0"/>
            <a:ext cx="2533680" cy="4343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8600" y="5105520"/>
            <a:ext cx="1676520" cy="1447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38280" y="472428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欣赏诗朗诵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天使、翅膀、诚信》</a:t>
            </a:r>
            <a:r>
              <a:rPr b="0" lang="zh-CN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83664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有德有才者，谓之君子也；有德无才者，谓之贤人也；有才无德者，谓小人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1520" y="18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中国传统道德标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-380880" y="0"/>
            <a:ext cx="1447560" cy="1523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33520"/>
            <a:ext cx="838188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天使的翅膀碎了，落到人间成了我们的忧伤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诚信的诺言丢了，散到世上成了撒旦的魔杖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人生之舟不堪重负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有弃有取，有失有得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失去了美貌有健康陪伴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失去了健康有才学追随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失去了才学有机遇相跟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而失去了诚信，拥有的一切只不过是水中月、镜中花，如过眼烟云，终会随风而逝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我爬上高山，为了寻找一片净空，苍老的山松告诉我，这儿有夏娃的仪容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我闯入森林，为了寻找一片净空，焦黄的落叶告诉我，这儿有野性的争斗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我踏上绿洲，为了寻找一片净空，雪白的绵羊告诉我，这有恶狼的罪过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我跳进大海，为了寻找一片净空，浑浊的浪花告诉我，这儿的美人色正在变丑。我开始思索，我开始琢磨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我无法理解，也无法逃脱，诚信的云岫被抛弃，再也映照不出夕阳西下彩霞的灿烂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向往真诚，渴望诚信，希望在旷野望天时天蓝草碧，云白风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拥有诚信，一根小小的火柴，可以燃亮一片心空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拥有诚信，一片小小的绿叶，可以沁满一个季节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拥有诚信，一剁小小的浪花，可以飞溅起整个海洋。天使用诚信做绷带，医好了受伤的翅膀；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撤旦的谎言被揭穿，他的魔杖终会失灵；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身披一片灿烂，心系一份执着，带着诚信上路，将踏出一风光</a:t>
            </a:r>
            <a:r>
              <a:rPr b="0" lang="zh-CN" sz="1400" spc="-1" strike="noStrike">
                <a:solidFill>
                  <a:srgbClr val="6600ff"/>
                </a:solidFill>
                <a:latin typeface="Times New Roman"/>
              </a:rPr>
              <a:t>!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天使、翅膀、诚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-380880" y="-5724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324000" y="203040"/>
            <a:ext cx="91440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诚信有别于哥们义气（江湖义气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哥们义气”则是一种比较狭隘的封建道德观念。它源于江湖义气，它视几个人或某个小集团的利益高于一切。它信奉的是“为朋友两肋插刀”、“士为知己死”、“有难同当，有富同享”，即使是错了，甚至杀人越货，触犯法律，也不能背叛这个“义”字。因而，它与同学之间的真正诚信友谊是截然不同的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信友谊应该是人与人之间的一种真挚的情感，是一种高尚的情操，诚信使你赢得朋友。当遇到困难和危险时，朋友会无私帮助，如果有了烦恼和苦闷时，可以向朋友倾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诚信是有原则、有界限的，诚信不能违反法律，不能违背社会公德。而“哥们义气” 会为“哥们”私利而不分是非，不讲原则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然，诚信需要互相理解和帮助，需要义气，但这种义气是要讲原则的，如果不辨是非地为“朋友”两胁插刀，甚至不顾后果，不负责任地迎合朋友的不正当需要，这不是真正有诚信，也够不上真正的义气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4572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作为中学生，我们应该在哪些地方做到“诚信为本”，更好地发扬“诚信”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3520" y="0"/>
            <a:ext cx="8076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社会主义荣辱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热爱祖国为荣       以危害祖国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服务人民为荣       以背离人民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崇尚科学为荣       以愚昧无知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辛勤劳动为荣       以好逸恶劳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团结互助为荣       以损人利己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诚实守信为荣       以见利忘义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遵纪守法为荣       以违法乱纪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艰苦奋斗为荣       以骄奢淫逸为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30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仿宋_GB2312"/>
              </a:rPr>
              <a:t>一个人可以没有财富，只要他活得坦荡；一个人可以没有名望，只要他问心无愧；但一个人不能没有诚信，否则他就会一无所有了。诚自心，信自行，心行合一。让我们用心灵呼唤诚信，让诚信变成清晨你窗前一缕温暖阳光，让诚信成为小鸟的清啼在你耳畔吟唱，让诚信成为你寒冷时身边红红的炉火，让诚信变成烈日下你头顶的一片绿荫。诚信是立身之本。诚信是我们健康成长的道德基础。雄鹰靠强硬的翅膀在天地间翱翔；人类以诚信的品德在历史中闪亮。呼唤诚信，拥抱诚信，为你的人格涂上一层亮色！呼唤诚信，拥抱诚信，让世界因诚信而春意盎然，五彩缤纷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让我们行动起来，做一个诚实守信的公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6542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考试，是每个学生最头疼的事。考不好，怕老师批评、怕家长责怪，有少部分同学就开始作弊。最原始的作弊方法就是传纸条；后来有人“发明”了把公式、答案抄在尺子上、橡皮上、桌子上甚至校服上。虽然学校对作弊现象严加管制，但是由于科技的发达，又给一些“上有政策，下有对策”的学生创造了更新、更快捷的作弊方法——手机短信息。作为学生，最主要的“工作”就是学习。既然学了，就要正确面对每一次考试，不能把一些投机取巧的方法用在考场上。我们每个人都会讲信用，都要讲诚信，可是你在考试的时候讲诚信了吗？你做到诚信了吗？考试是检验学习知识牢固程度的一种方法，作弊带来的后果不堪设想。今天考试可以作弊，但是明天呢？明天的明天你还要作弊吗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亮出真实的成绩，亮出真实的你。用诚信面对每一次考试！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600200" y="3808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用诚信面对每一次考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92680" y="3068640"/>
            <a:ext cx="127764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诚      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99120" y="20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真实不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30654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表里如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6360" y="407664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信守诺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2205000"/>
            <a:ext cx="502920" cy="2303640"/>
          </a:xfrm>
          <a:custGeom>
            <a:avLst/>
            <a:gdLst>
              <a:gd name="textAreaLeft" fmla="*/ 321480 w 502920"/>
              <a:gd name="textAreaRight" fmla="*/ 503280 w 50292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8244000" y="6093000"/>
            <a:ext cx="287280" cy="360360"/>
          </a:xfrm>
          <a:custGeom>
            <a:avLst/>
            <a:gdLst>
              <a:gd name="textAreaLeft" fmla="*/ 38520 w 287280"/>
              <a:gd name="textAreaRight" fmla="*/ 248760 w 287280"/>
              <a:gd name="textAreaTop" fmla="*/ 57960 h 360360"/>
              <a:gd name="textAreaBottom" fmla="*/ 2664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58" stAng="-5400000" swAng="5400000"/>
                <a:lnTo>
                  <a:pt x="21600" y="12482"/>
                </a:lnTo>
                <a:arcTo wR="21600" hR="6958" stAng="0" swAng="1632443"/>
                <a:lnTo>
                  <a:pt x="11469" y="20538"/>
                </a:lnTo>
                <a:lnTo>
                  <a:pt x="0" y="16678"/>
                </a:lnTo>
                <a:lnTo>
                  <a:pt x="11469" y="10694"/>
                </a:lnTo>
                <a:lnTo>
                  <a:pt x="11469" y="12854"/>
                </a:lnTo>
                <a:arcTo wR="21600" hR="6958" stAng="1632443" swAng="-1156570"/>
                <a:lnTo>
                  <a:pt x="19825" y="9720"/>
                </a:lnTo>
                <a:arcTo wR="21600" hR="6958" stAng="-475873" swAng="-4924127"/>
                <a:close/>
              </a:path>
              <a:path fill="darkenLess" w="21600" h="21600">
                <a:moveTo>
                  <a:pt x="0" y="0"/>
                </a:moveTo>
                <a:arcTo wR="21600" hR="6958" stAng="-5400000" swAng="5400000"/>
                <a:lnTo>
                  <a:pt x="21600" y="12482"/>
                </a:lnTo>
                <a:arcTo wR="21600" hR="6958" stAng="0" swAng="-475873"/>
                <a:lnTo>
                  <a:pt x="19825" y="9720"/>
                </a:lnTo>
                <a:arcTo wR="21600" hR="6958" stAng="-475873" swAng="-4924127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5373720"/>
            <a:ext cx="55465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Monotype Corsiva"/>
                <a:ea typeface="黑体"/>
              </a:rPr>
              <a:t>诚信方能成人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295280"/>
            <a:ext cx="9144000" cy="1599840"/>
            <a:chOff x="0" y="1295280"/>
            <a:chExt cx="9144000" cy="1599840"/>
          </a:xfrm>
        </p:grpSpPr>
        <p:sp>
          <p:nvSpPr>
            <p:cNvPr id="99" name=""/>
            <p:cNvSpPr/>
            <p:nvPr/>
          </p:nvSpPr>
          <p:spPr>
            <a:xfrm>
              <a:off x="0" y="1295280"/>
              <a:ext cx="9144000" cy="15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295280"/>
              <a:ext cx="9144000" cy="15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_x000b__x000c_"/>
                </a:rPr>
                <a:t>恪守规则，就是诚信的表现。什么是诚信？诚，即真诚、诚实；信，即守承诺、讲信用。诚信的基本含义是守诺、践约、无欺。通俗地表述，就是说老实话、办老实事、做老实人。人生活在社会中，总要与他人和社会发生关系。处理这种关系必须遵从一定的规则，有章必循，有诺必践；否则，个人就失去立身之本，社会就失去运行之规。诚信自古便是中华民族优良的传统美德，是人类文明精华的思想。孔子曾说：“人而无信，不知其可也”，强调“民无信不立”。历代中国人奉行的是“以信为本，以诚立业”。诚信作为一种重要的道德实质，成为我们民族最宝贵的精神遗产。历史发展到今天，在文明社会里，都把诚信视为社会文明的规范，社会前进的杠杆，社会发展的基石。对于现代市场经济、信用经济，诚信则是其内在的道德要求。一个企业家，一个经济活动主体在经济活动中如果不重诺践约，争取坑蒙拐骗的手法，不仅要受到同行的唾弃，还要受到法律的制裁。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_x000b__x000c_"/>
                </a:rPr>
                <a:t>大学校园是精神文明的首善之区，大学生群体是先进文化的倡导者，全社会呼唤诚信，大学应该率先树立诚信风气。诚信是对现代人才素质的基本要求。我们大学生完成学业后总要走向社会，是否成才需要接受社会实践的检验，在大学生的综合素质中，道德素质是首要的、基本的素质。作为《公民道德建设实施纲要》基本要求的“诚实守信”，诚信从根本上说，是一种人品修养，是做人的根本准则，是面对全体公民的普遍道德要求，是每个公民都必须遵循的基本道德义务，而不只是一种道德的境界。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2895480" y="0"/>
            <a:ext cx="3124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诚信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6040" y="1582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诚信的作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981000"/>
            <a:ext cx="936720" cy="4319640"/>
          </a:xfrm>
          <a:custGeom>
            <a:avLst/>
            <a:gdLst>
              <a:gd name="textAreaLeft" fmla="*/ 598680 w 936720"/>
              <a:gd name="textAreaRight" fmla="*/ 937080 w 936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85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9960" y="765000"/>
            <a:ext cx="40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与人交往的角度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诚信才能蠃得友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78680" y="1484280"/>
            <a:ext cx="40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商业经营的角度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诚信能够树立起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好的信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07040" y="2781360"/>
            <a:ext cx="40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治理国家的角度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诚信才能蠃得人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78680" y="3789360"/>
            <a:ext cx="40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个人发展的角度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诚信才能蠃得信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自己更好的发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473400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752480"/>
            <a:ext cx="7696440" cy="14770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周宾和宋杰是好朋友，他们曾经许诺，不管是谁遇到困难，一定要互相帮助，这天周宾想抄宋杰的作业，宋杰没同意，他生气的说：“这点忙都不帮，真不讲信用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讨论：你对这件事怎么看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1560"/>
            <a:ext cx="4038480" cy="642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诚信之小小辩论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05120"/>
            <a:ext cx="7620120" cy="13230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模拟应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虚拟情景）一个中国青年在应聘时，考官对他说：“我认识你，你曾经在哈佛大学读书。”实际上它并没有去过哈佛大学。假如你是这位应聘的青年，你会怎么说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30280"/>
            <a:ext cx="4038480" cy="642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诚信之小小辩论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549360"/>
            <a:ext cx="7129440" cy="3993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诚信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姓名                        制作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座右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诚信指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现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                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将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260280"/>
            <a:ext cx="208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一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2520360" y="4692600"/>
            <a:ext cx="2448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要求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诚信名言是自己创造出来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先了解一下现在的诚信指数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64360" y="5349960"/>
            <a:ext cx="19796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23920"/>
            <a:ext cx="5790960" cy="642600"/>
          </a:xfrm>
          <a:prstGeom prst="rect">
            <a:avLst/>
          </a:prstGeom>
          <a:solidFill>
            <a:srgbClr val="dc590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诗朗诵《天上人间说诚信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143000"/>
            <a:ext cx="8001000" cy="5213160"/>
          </a:xfrm>
          <a:prstGeom prst="rect">
            <a:avLst/>
          </a:prstGeom>
          <a:solidFill>
            <a:srgbClr val="ccffcc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盘古说：“诚信是我开天的巨斧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女娲说：“诚信是我补天的五彩晶石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孙行者说：“诚信是王母蟠桃园里熟透的桃子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孔已己说：“诚信是我站着喝酒时的长衫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牛顿说：“诚信是我的三大定律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爱因斯坦说：“诚信是我的相对论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愚者说：“诚信是伪君子的假惺惺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智者说：“诚信是人类闪光的金子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哲人说：“诚信是世间万物的源泉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妈妈说：“诚信是做人的准则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师说：“诚信是成长的基准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朋友说：“诚信是交友的基础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10280" y="3200400"/>
            <a:ext cx="14018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2:20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6:18Z</dcterms:modified>
  <cp:revision>60</cp:revision>
  <dc:subject>主题班会课件(分28大类): http://shop62905894.taobao.com</dc:subject>
  <dc:title>主题班会课件(分28大类): http://shop62905894.taobao.com</dc:title>
</cp:coreProperties>
</file>